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070910"/>
        <c:axId val="67288880"/>
      </c:barChart>
      <c:catAx>
        <c:axId val="260709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88880"/>
        <c:crosses val="autoZero"/>
        <c:auto val="1"/>
        <c:lblAlgn val="ctr"/>
        <c:lblOffset val="100"/>
        <c:noMultiLvlLbl val="0"/>
      </c:catAx>
      <c:valAx>
        <c:axId val="672888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709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7CA1-298A-433B-88F1-3719F84D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7435-38BA-4D56-9E1C-B86F0245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05F0-432A-45C9-BE7E-3EF61DC34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43F6-11F3-442E-9BE3-5B2022C58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030B-C9C6-4885-95F9-7EAE3E34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AE0D-264C-4032-9542-387E5FF8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9EBA-0619-4413-8C9A-3BE6578F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2C32-7844-4337-9AC0-133003A9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9A82-5A0F-423C-A08B-0B117CBE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A48D-584A-4CA8-9482-89DAA4DB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B9B3-4E4D-4207-9A13-7759B3BA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20D6-0D7B-4B67-AB90-E91D88F8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A7A6B-E155-401E-A778-7448E64ECE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