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63640"/>
        <c:axId val="84034156"/>
      </c:barChart>
      <c:catAx>
        <c:axId val="37463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34156"/>
        <c:crosses val="autoZero"/>
        <c:auto val="1"/>
        <c:lblAlgn val="ctr"/>
        <c:lblOffset val="100"/>
        <c:noMultiLvlLbl val="0"/>
      </c:catAx>
      <c:valAx>
        <c:axId val="84034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63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EDD-C707-4550-A635-2E95523C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5EF-40DD-479F-BF3E-668526A9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50E-4DB5-4970-A322-8B42AA03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97E-6D87-4ECD-AAA4-6D05E15F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7BB-FF0F-4ED5-92AE-9FD39D2C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9BC-28A4-42D6-B43F-66AA49C2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442-31CF-435B-900D-E5D7FDE2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3D4-9BCF-4C8A-8E50-1B8DBFFE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E6D-FF8E-4D10-BE36-1E61DC84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CE5-49AF-45FE-84B9-DB7B2B78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B50-7090-4132-917F-D8C5BA26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450-8781-41AB-899F-ADA2F3D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34DDF-FE1C-4F82-B5D5-0C27E48934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