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49014"/>
        <c:axId val="9182945"/>
      </c:barChart>
      <c:catAx>
        <c:axId val="22949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2945"/>
        <c:crosses val="autoZero"/>
        <c:auto val="1"/>
        <c:lblAlgn val="ctr"/>
        <c:lblOffset val="100"/>
        <c:noMultiLvlLbl val="0"/>
      </c:catAx>
      <c:valAx>
        <c:axId val="9182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49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E9E-C5C8-4404-9ED0-962C74A2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AF0-51A6-4FCA-B77E-987CFEAC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3BC-36A5-4581-804E-6205BCD7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C54-734A-460F-A800-E9C69DED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B65-C784-48EB-85F1-C9625584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F88-B28D-403C-BDF6-26566CD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2B5-3A73-4C75-AD17-3C8AA6D5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C70-36C5-4460-8FE7-563B0EC6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8D5-108B-4F78-9F80-AB00380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1FB-393C-4D4E-9F2D-CC3D6C3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F9D-07DE-4468-8CC5-64CC3165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C87-BD49-4FFA-B26F-63530D7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BE244-60D1-4409-9228-0AB5C75BF0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