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113176"/>
        <c:axId val="76208562"/>
      </c:barChart>
      <c:catAx>
        <c:axId val="741131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08562"/>
        <c:crosses val="autoZero"/>
        <c:auto val="1"/>
        <c:lblAlgn val="ctr"/>
        <c:lblOffset val="100"/>
        <c:noMultiLvlLbl val="0"/>
      </c:catAx>
      <c:valAx>
        <c:axId val="762085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131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BD24-5EA7-474E-9707-CB17E3DE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AE55-E4A2-47DF-B0C0-ECC7B03F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040C-79F9-43DA-AD8B-C0678EE3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9C1D-244A-4AEF-BE60-028C7215A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9D4F-C9C1-44EF-95AC-199D2ADE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E87E-3D06-4287-8915-D847F017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7C89-EB4F-46A7-A9DC-67E5F277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6643-F79F-4B1F-8342-63F0BB8B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7DD4-3CE7-43C1-996E-A3D33622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4429-A33D-414E-9E6B-8D464888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2574-D415-4BCA-9478-2235EDB4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489F-F0D5-4176-A084-95CB58EC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4E1C4-1D54-40FD-8CA2-0699C3988C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