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454362"/>
        <c:axId val="58687098"/>
      </c:barChart>
      <c:catAx>
        <c:axId val="65454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687098"/>
        <c:crosses val="autoZero"/>
        <c:auto val="1"/>
        <c:lblAlgn val="ctr"/>
        <c:lblOffset val="100"/>
        <c:noMultiLvlLbl val="0"/>
      </c:catAx>
      <c:valAx>
        <c:axId val="58687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454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6DA8-4263-445E-B974-970519D7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FE9-DBDC-4705-9C29-7DDC13AE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202-F6FB-49E3-9DC8-463C866C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0DC-9A7D-43A6-AE28-1F1D12B4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B70-AA8B-42E4-8851-AB958425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700-8E7C-4B71-8B45-D20519A0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F492-75B2-4565-A723-24C024EE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A001-6441-4FC0-BD58-700726AC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5B84-59CA-4716-81E1-46BB4B1A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64B-80C2-43CC-B97E-256302D9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C4E-A329-4840-8E61-E8FC0D95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D247-D508-4EAB-96E3-BB0D299E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B9C5E-23F7-467A-A3C0-F05DE8574C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