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19582"/>
        <c:axId val="72915460"/>
      </c:barChart>
      <c:catAx>
        <c:axId val="51919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15460"/>
        <c:crosses val="autoZero"/>
        <c:auto val="1"/>
        <c:lblAlgn val="ctr"/>
        <c:lblOffset val="100"/>
        <c:noMultiLvlLbl val="0"/>
      </c:catAx>
      <c:valAx>
        <c:axId val="72915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19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BDC-CA89-4011-BBE3-219311F4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8C0-808D-449C-85D2-441B7545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087-7014-47E9-9933-63CC1158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8E7-887E-4C58-B5E3-539E3D2F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4AD-AE76-4F81-A1EA-9CC3FCF4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A4A-07B9-4D5C-8933-A9450130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63C-A0C5-482B-BD94-617BA194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8A70-3189-432D-916C-13258514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428-822E-42DC-A482-5F0AE420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44F-47E4-4D7C-A709-73DBE72F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D8C-3593-402C-A40E-63A0ABAE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FD4-72C9-45F8-A184-9AC85132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32118-F029-4391-93A4-E7912AFB64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